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28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4.png" ContentType="image/png"/>
  <Override PartName="/ppt/media/image27.png" ContentType="image/png"/>
  <Override PartName="/ppt/media/image26.jpeg" ContentType="image/jpeg"/>
  <Override PartName="/ppt/media/image1.png" ContentType="image/png"/>
  <Override PartName="/ppt/media/image23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4889A-0BDC-4ABD-A45D-0799B86CEC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423360"/>
            <a:ext cx="8636040" cy="1776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2199960"/>
            <a:ext cx="8636040" cy="2585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61760" y="5031000"/>
            <a:ext cx="8636040" cy="2585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0CB29-DD1C-4FB4-98AC-23A5553053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1760" y="423360"/>
            <a:ext cx="8636040" cy="1776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2199960"/>
            <a:ext cx="4214160" cy="2585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86880" y="2199960"/>
            <a:ext cx="4214160" cy="2585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1760" y="5031000"/>
            <a:ext cx="4214160" cy="2585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86880" y="5031000"/>
            <a:ext cx="4214160" cy="2585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C76EC-8612-4AE9-B532-B6F29371CE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423360"/>
            <a:ext cx="8636040" cy="1776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2199960"/>
            <a:ext cx="2780640" cy="2585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81720" y="2199960"/>
            <a:ext cx="2780640" cy="2585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02040" y="2199960"/>
            <a:ext cx="2780640" cy="2585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61760" y="5031000"/>
            <a:ext cx="2780640" cy="2585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81720" y="5031000"/>
            <a:ext cx="2780640" cy="2585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02040" y="5031000"/>
            <a:ext cx="2780640" cy="2585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3382B-1743-443C-8EDB-36BCD9B2E4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1760" y="423360"/>
            <a:ext cx="8636040" cy="1776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61760" y="2199960"/>
            <a:ext cx="8636040" cy="54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9E45E-734D-4C4A-9A8F-A9F6D67212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423360"/>
            <a:ext cx="8636040" cy="1776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1760" y="2199960"/>
            <a:ext cx="8636040" cy="5419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AA2D9-49ED-492E-A2CC-D837418AB9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423360"/>
            <a:ext cx="8636040" cy="1776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199960"/>
            <a:ext cx="4214160" cy="5419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86880" y="2199960"/>
            <a:ext cx="4214160" cy="5419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2A5E2-D2AD-4855-8BFA-1057CACDED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423360"/>
            <a:ext cx="8636040" cy="1776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A5DB4-549E-47E4-B0EA-BC316309DE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61760" y="423360"/>
            <a:ext cx="8636040" cy="82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F71EB-8925-41B3-978B-04025094DA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423360"/>
            <a:ext cx="8636040" cy="1776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2199960"/>
            <a:ext cx="4214160" cy="2585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86880" y="2199960"/>
            <a:ext cx="4214160" cy="5419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61760" y="5031000"/>
            <a:ext cx="4214160" cy="2585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324EF-3131-4CD6-861F-47110B1FB3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1760" y="423360"/>
            <a:ext cx="8636040" cy="1776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2199960"/>
            <a:ext cx="4214160" cy="5419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86880" y="2199960"/>
            <a:ext cx="4214160" cy="2585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86880" y="5031000"/>
            <a:ext cx="4214160" cy="2585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AF93F-A935-486D-9D60-8E01F56530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1760" y="423360"/>
            <a:ext cx="8636040" cy="1776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2199960"/>
            <a:ext cx="4214160" cy="2585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86880" y="2199960"/>
            <a:ext cx="4214160" cy="2585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1760" y="5031000"/>
            <a:ext cx="8636040" cy="2585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65A37-4212-4D53-B80B-3B2E970745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423360"/>
            <a:ext cx="8636040" cy="1776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199960"/>
            <a:ext cx="8636040" cy="5419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2880" y="694188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C2DE-E0B3-4668-9F0E-EFCB1F64AF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file:///Users/isabelarias/Downloads/Downloads/RAR%20:%20ZIP/635_beach_ppt/635.ppt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file:///Users/isabelarias/Downloads/Downloads/RAR%20:%20ZIP/635_beach_ppt/635.ppt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file:///Users/isabelarias/Downloads/Downloads/RAR%20:%20ZIP/635_beach_ppt/635.ppt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file:///Users/isabelarias/Downloads/Downloads/RAR%20:%20ZIP/635_beach_ppt/635.ppt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file:///Users/isabelarias/Downloads/Downloads/RAR%20:%20ZIP/635_beach_ppt/635.ppt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Users/isabelarias/Downloads/Downloads/RAR%20:%20ZIP/635_beach_ppt/635.ppt" TargetMode="Externa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file:///Users/isabelarias/Downloads/Downloads/RAR%20:%20ZIP/635_beach_ppt/635.ppt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file:///Users/isabelarias/Downloads/Downloads/RAR%20:%20ZIP/635_beach_ppt/635.ppt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5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2052720" y="1608120"/>
            <a:ext cx="7145280" cy="35892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396960" y="-1390680"/>
            <a:ext cx="8210520" cy="30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300" spc="-1" strike="noStrike">
                <a:solidFill>
                  <a:srgbClr val="674ea7"/>
                </a:solidFill>
                <a:latin typeface="Arial"/>
                <a:ea typeface="Arial"/>
              </a:rPr>
              <a:t>Climate &amp;</a:t>
            </a: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063760" y="6503760"/>
            <a:ext cx="7024680" cy="31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Arial"/>
              </a:rPr>
              <a:t>Unit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2360" y="-360"/>
            <a:ext cx="85932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660066"/>
                </a:solidFill>
                <a:latin typeface="Arial"/>
                <a:ea typeface="Arial"/>
              </a:rPr>
              <a:t>Anemometer: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0320" y="225756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strument which measures wind spe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751120" y="3247920"/>
            <a:ext cx="3695760" cy="368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5080" y="355320"/>
            <a:ext cx="96645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ff"/>
                </a:solidFill>
                <a:uFillTx/>
                <a:latin typeface="Century Gothic"/>
                <a:ea typeface="Century Gothic"/>
              </a:rPr>
              <a:t>What's the weather like toda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17400" y="2260440"/>
            <a:ext cx="4025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9900"/>
                </a:solidFill>
                <a:latin typeface="Arial Bold"/>
                <a:ea typeface="Arial Bold"/>
              </a:rPr>
              <a:t>It's.....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1206360"/>
            <a:ext cx="3124080" cy="65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6e6e6"/>
                </a:solidFill>
                <a:latin typeface="Arial Black"/>
                <a:ea typeface="Arial Black"/>
              </a:rPr>
              <a:t>sunny</a:t>
            </a:r>
            <a:r>
              <a:rPr b="0" lang="en-US" sz="3600" spc="-1" strike="noStrike">
                <a:solidFill>
                  <a:srgbClr val="fd9a00"/>
                </a:solidFill>
                <a:latin typeface="Arial Black"/>
                <a:ea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9a00"/>
                </a:solidFill>
                <a:latin typeface="Arial Black"/>
                <a:ea typeface="Arial Black"/>
              </a:rPr>
              <a:t>win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6578d"/>
                </a:solidFill>
                <a:latin typeface="Arial Black"/>
                <a:ea typeface="Arial Black"/>
              </a:rPr>
              <a:t>clou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Arial Black"/>
              </a:rPr>
              <a:t>ra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Arial Black"/>
              </a:rPr>
              <a:t>storm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40800"/>
                </a:solidFill>
                <a:latin typeface="Arial Black"/>
                <a:ea typeface="Arial Black"/>
              </a:rPr>
              <a:t>hai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b100"/>
                </a:solidFill>
                <a:latin typeface="Arial Black"/>
                <a:ea typeface="Arial Black"/>
              </a:rPr>
              <a:t>snow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40047"/>
                </a:solidFill>
                <a:latin typeface="Arial Black"/>
                <a:ea typeface="Arial Black"/>
              </a:rPr>
              <a:t>c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2cfd"/>
                </a:solidFill>
                <a:latin typeface="Arial Black"/>
                <a:ea typeface="Arial Black"/>
              </a:rPr>
              <a:t>h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10000" y="1380960"/>
            <a:ext cx="0" cy="55375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07800" y="307440"/>
            <a:ext cx="76834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0" tIns="50760" bIns="507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5a7c"/>
                </a:solidFill>
                <a:uFillTx/>
                <a:latin typeface="Stone Sans ITC TT-Bold"/>
                <a:ea typeface="Stone Sans ITC TT-Bold"/>
              </a:rPr>
              <a:t>What's the weather like toda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368600" y="4829040"/>
            <a:ext cx="542268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 u="sng">
                <a:solidFill>
                  <a:srgbClr val="009999"/>
                </a:solidFill>
                <a:uFillTx/>
                <a:latin typeface="Stone Sans ITC TT-Bold"/>
                <a:ea typeface="Stone Sans ITC TT-Bold"/>
                <a:hlinkClick r:id="rId2"/>
              </a:rPr>
              <a:t>It’s windy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192880" y="694188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C4F4-646C-4E55-BCF1-E40FC9FA65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28620-40F1-41CE-B6BD-6B4461D35BE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2997360" y="0"/>
            <a:ext cx="13538520" cy="76201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160" y="791640"/>
            <a:ext cx="8636040" cy="1776600"/>
          </a:xfrm>
          <a:prstGeom prst="rect">
            <a:avLst/>
          </a:prstGeom>
          <a:noFill/>
          <a:ln w="0">
            <a:noFill/>
          </a:ln>
        </p:spPr>
        <p:txBody>
          <a:bodyPr lIns="50760" rIns="0" tIns="50760" bIns="507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86cd4d"/>
                </a:solidFill>
                <a:uFillTx/>
                <a:latin typeface="Century Gothic"/>
                <a:ea typeface="Century Gothic"/>
              </a:rPr>
              <a:t>What's the weather like toda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22480" y="2555640"/>
            <a:ext cx="542268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 u="sng">
                <a:solidFill>
                  <a:srgbClr val="009999"/>
                </a:solidFill>
                <a:uFillTx/>
                <a:latin typeface="Stone Sans ITC TT-Bold"/>
                <a:ea typeface="Stone Sans ITC TT-Bold"/>
                <a:hlinkClick r:id="rId2"/>
              </a:rPr>
              <a:t>It’s stormy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192880" y="694188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01E0-30A9-42DA-96A3-57A7918276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F7FA0-0F67-4857-A0C2-93B562F833E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-177840" y="-71280"/>
            <a:ext cx="10348920" cy="7762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1640" y="1198080"/>
            <a:ext cx="8636040" cy="1776600"/>
          </a:xfrm>
          <a:prstGeom prst="rect">
            <a:avLst/>
          </a:prstGeom>
          <a:noFill/>
          <a:ln w="0">
            <a:noFill/>
          </a:ln>
        </p:spPr>
        <p:txBody>
          <a:bodyPr lIns="50760" rIns="0" tIns="50760" bIns="507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Charcoal CY"/>
                <a:ea typeface="Charcoal CY"/>
              </a:rPr>
              <a:t>What's the weather like toda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72840" y="3495600"/>
            <a:ext cx="542268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 u="sng">
                <a:solidFill>
                  <a:srgbClr val="009999"/>
                </a:solidFill>
                <a:uFillTx/>
                <a:latin typeface="Stone Sans ITC TT-Bold"/>
                <a:ea typeface="Stone Sans ITC TT-Bold"/>
                <a:hlinkClick r:id="rId2"/>
              </a:rPr>
              <a:t>It’s raining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192880" y="694188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87E1-606F-4021-B042-FF6DD907C4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C3CCB-E56B-4686-9136-1CA5346F317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83920" y="1084320"/>
            <a:ext cx="8636040" cy="1776240"/>
          </a:xfrm>
          <a:prstGeom prst="rect">
            <a:avLst/>
          </a:prstGeom>
          <a:noFill/>
          <a:ln w="0">
            <a:noFill/>
          </a:ln>
        </p:spPr>
        <p:txBody>
          <a:bodyPr lIns="50760" rIns="0" tIns="50760" bIns="507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ff"/>
                </a:solidFill>
                <a:uFillTx/>
                <a:latin typeface="Century Gothic"/>
                <a:ea typeface="Century Gothic"/>
              </a:rPr>
              <a:t>What's the weather like toda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81360" y="3368520"/>
            <a:ext cx="6756480" cy="2146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 u="sng">
                <a:solidFill>
                  <a:srgbClr val="009999"/>
                </a:solidFill>
                <a:uFillTx/>
                <a:latin typeface="Stone Sans ITC TT-Bold"/>
                <a:ea typeface="Stone Sans ITC TT-Bold"/>
                <a:hlinkClick r:id="rId2"/>
              </a:rPr>
              <a:t>It’s Snowing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192880" y="694188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B232-54EB-4736-A79C-0467C16E97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1463D-ADA5-4B6E-86FD-981466EC5C2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320" y="982800"/>
            <a:ext cx="8636040" cy="1776240"/>
          </a:xfrm>
          <a:prstGeom prst="rect">
            <a:avLst/>
          </a:prstGeom>
          <a:noFill/>
          <a:ln w="0">
            <a:noFill/>
          </a:ln>
        </p:spPr>
        <p:txBody>
          <a:bodyPr lIns="50760" rIns="0" tIns="50760" bIns="507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ff"/>
                </a:solidFill>
                <a:uFillTx/>
                <a:latin typeface="Century Gothic"/>
                <a:ea typeface="Century Gothic"/>
              </a:rPr>
              <a:t>What's the weather like toda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49000" y="3482640"/>
            <a:ext cx="8636040" cy="5419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 u="sng">
                <a:solidFill>
                  <a:srgbClr val="009999"/>
                </a:solidFill>
                <a:uFillTx/>
                <a:latin typeface="Stone Sans ITC TT-Bold"/>
                <a:ea typeface="Stone Sans ITC TT-Bold"/>
                <a:hlinkClick r:id="rId2"/>
              </a:rPr>
              <a:t>It’s sunny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192880" y="694188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C310-D48D-47B3-876D-5852F1A593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22038-A718-4B6C-9112-FF32DDE93C6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83920" y="1084320"/>
            <a:ext cx="8636040" cy="1776240"/>
          </a:xfrm>
          <a:prstGeom prst="rect">
            <a:avLst/>
          </a:prstGeom>
          <a:noFill/>
          <a:ln w="0">
            <a:noFill/>
          </a:ln>
        </p:spPr>
        <p:txBody>
          <a:bodyPr lIns="50760" rIns="0" tIns="50760" bIns="507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ff"/>
                </a:solidFill>
                <a:uFillTx/>
                <a:latin typeface="Century Gothic"/>
                <a:ea typeface="Century Gothic"/>
              </a:rPr>
              <a:t>What's the weather like toda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55520" y="3279600"/>
            <a:ext cx="542268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 u="sng">
                <a:solidFill>
                  <a:srgbClr val="009999"/>
                </a:solidFill>
                <a:uFillTx/>
                <a:latin typeface="Stone Sans ITC TT-Bold"/>
                <a:ea typeface="Stone Sans ITC TT-Bold"/>
                <a:hlinkClick r:id="rId1"/>
              </a:rPr>
              <a:t>It’s hot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975280" y="2629080"/>
            <a:ext cx="3422880" cy="334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F831D-D36D-4ABB-95E5-825D5A14085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83920" y="1084320"/>
            <a:ext cx="8636040" cy="1776240"/>
          </a:xfrm>
          <a:prstGeom prst="rect">
            <a:avLst/>
          </a:prstGeom>
          <a:noFill/>
          <a:ln w="0">
            <a:noFill/>
          </a:ln>
        </p:spPr>
        <p:txBody>
          <a:bodyPr lIns="50760" rIns="0" tIns="50760" bIns="507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ff"/>
                </a:solidFill>
                <a:uFillTx/>
                <a:latin typeface="Century Gothic"/>
                <a:ea typeface="Century Gothic"/>
              </a:rPr>
              <a:t>What's the weather like toda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55520" y="3279600"/>
            <a:ext cx="542268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 u="sng">
                <a:solidFill>
                  <a:srgbClr val="009999"/>
                </a:solidFill>
                <a:uFillTx/>
                <a:latin typeface="Stone Sans ITC TT-Bold"/>
                <a:ea typeface="Stone Sans ITC TT-Bold"/>
                <a:hlinkClick r:id="rId2"/>
              </a:rPr>
              <a:t>It’s cloudy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192880" y="694188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1E62-1CC9-4772-9C71-1442898EA5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7B8EB-6C51-4D39-898E-FA1811C1E07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34960" y="2057400"/>
            <a:ext cx="3886200" cy="50799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88480" y="283680"/>
            <a:ext cx="8636040" cy="1776600"/>
          </a:xfrm>
          <a:prstGeom prst="rect">
            <a:avLst/>
          </a:prstGeom>
          <a:noFill/>
          <a:ln w="0">
            <a:noFill/>
          </a:ln>
        </p:spPr>
        <p:txBody>
          <a:bodyPr lIns="50760" rIns="0" tIns="50760" bIns="507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ff"/>
                </a:solidFill>
                <a:uFillTx/>
                <a:latin typeface="Century Gothic"/>
                <a:ea typeface="Century Gothic"/>
              </a:rPr>
              <a:t>What's the weather like toda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25720" y="3355560"/>
            <a:ext cx="40640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 u="sng">
                <a:solidFill>
                  <a:srgbClr val="009999"/>
                </a:solidFill>
                <a:uFillTx/>
                <a:latin typeface="Stone Sans ITC TT-Bold"/>
                <a:ea typeface="Stone Sans ITC TT-Bold"/>
                <a:hlinkClick r:id="rId2"/>
              </a:rPr>
              <a:t>It’s cold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0DC19-5878-4B7E-B712-57851B125B5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5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5920" y="1724040"/>
            <a:ext cx="6923160" cy="223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2000" y="-360"/>
            <a:ext cx="854892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6600"/>
                </a:solidFill>
                <a:latin typeface="Arial"/>
                <a:ea typeface="Arial"/>
              </a:rPr>
              <a:t>Vocabular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62040" y="2257560"/>
            <a:ext cx="4146840" cy="53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Arial"/>
              </a:rPr>
              <a:t>Weathe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Arial"/>
              </a:rPr>
              <a:t>Atmosphere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Arial"/>
              </a:rPr>
              <a:t>Climat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Arial"/>
              </a:rPr>
              <a:t>Precipitation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Arial"/>
              </a:rPr>
              <a:t>Win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Arial"/>
              </a:rPr>
              <a:t>Meteorologis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Arial"/>
              </a:rPr>
              <a:t>Anemometer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Arial"/>
              </a:rPr>
              <a:t>Wind van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33440" y="2444760"/>
            <a:ext cx="4637160" cy="34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2019240" y="0"/>
            <a:ext cx="12192120" cy="76201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1440" y="1160640"/>
            <a:ext cx="8636040" cy="1776240"/>
          </a:xfrm>
          <a:prstGeom prst="rect">
            <a:avLst/>
          </a:prstGeom>
          <a:noFill/>
          <a:ln w="0">
            <a:noFill/>
          </a:ln>
        </p:spPr>
        <p:txBody>
          <a:bodyPr lIns="50760" rIns="0" tIns="50760" bIns="507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Century Gothic"/>
                <a:ea typeface="Century Gothic"/>
              </a:rPr>
              <a:t>What's the weather like toda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908080" y="3508200"/>
            <a:ext cx="542268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33"/>
                </a:solidFill>
                <a:latin typeface="Stone Sans ITC TT-Bold"/>
                <a:ea typeface="Stone Sans ITC TT-Bold"/>
              </a:rPr>
              <a:t>It’s hailing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192880" y="694188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DB94-BA2F-4A4E-A585-D4F65DA982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D198A-CB6E-4FFF-B93F-A69B94B08A8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423360"/>
            <a:ext cx="8636040" cy="1776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00e6"/>
                </a:solidFill>
                <a:latin typeface="Abadi MT Condensed Extra Bold"/>
                <a:ea typeface="Abadi MT Condensed Extra Bold"/>
              </a:rPr>
              <a:t>Which instruments do you use to study the weath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14400" y="2354400"/>
            <a:ext cx="1498680" cy="2598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09880" y="4444920"/>
            <a:ext cx="2032200" cy="2032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873760" y="2550960"/>
            <a:ext cx="2990880" cy="2921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25400" y="5105520"/>
            <a:ext cx="201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therm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32240" y="5676840"/>
            <a:ext cx="1542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wind v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03840" y="6616800"/>
            <a:ext cx="1947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anem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096BE-61DE-42AD-8424-FFE77F0998C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98400" y="1092240"/>
            <a:ext cx="1625760" cy="16254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863640" y="2971800"/>
            <a:ext cx="1295280" cy="2247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711360" y="5662440"/>
            <a:ext cx="1600200" cy="1563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45760" y="-287280"/>
            <a:ext cx="8636040" cy="1776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badi MT Condensed Light"/>
                <a:ea typeface="Abadi MT Condensed Light"/>
              </a:rPr>
              <a:t>Match each picture with its definition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badi MT Condensed Light"/>
                <a:ea typeface="Abadi MT Condensed Light"/>
              </a:rPr>
              <a:t>Write on your noteboo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99000" y="1689120"/>
            <a:ext cx="4232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fe"/>
                </a:solidFill>
                <a:latin typeface="Stone Sans ITC TT-Semi"/>
                <a:ea typeface="Stone Sans ITC TT-Semi"/>
              </a:rPr>
              <a:t>It measures the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53000" y="3594240"/>
            <a:ext cx="405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28"/>
                </a:solidFill>
                <a:latin typeface="Stone Sans ITC TT-Semi"/>
                <a:ea typeface="Stone Sans ITC TT-Semi"/>
              </a:rPr>
              <a:t>It measures the wind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35280" y="5613480"/>
            <a:ext cx="433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2067"/>
                </a:solidFill>
                <a:latin typeface="Stone Sans ITC TT-Semi"/>
                <a:ea typeface="Stone Sans ITC TT-Semi"/>
              </a:rPr>
              <a:t>It indicates the wind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87520" y="1787400"/>
            <a:ext cx="3006720" cy="188604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285280" y="2084040"/>
            <a:ext cx="3051000" cy="170028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401200" y="5929200"/>
            <a:ext cx="2895480" cy="39240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45EA7-0F2F-4884-969A-0E2F44ECDEE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25560" y="1303200"/>
            <a:ext cx="10211040" cy="465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B0932-8FEA-4FC1-886B-73F7A560B78C}" type="slidenum">
              <a:t>23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1819440"/>
            <a:ext cx="3714840" cy="139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2000" y="-360"/>
            <a:ext cx="854892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300" spc="-1" strike="noStrike">
                <a:solidFill>
                  <a:srgbClr val="ccffff"/>
                </a:solidFill>
                <a:latin typeface="Arial Bold"/>
                <a:ea typeface="Arial Bold"/>
              </a:rPr>
              <a:t>Weather:</a:t>
            </a: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0320" y="2257560"/>
            <a:ext cx="4146480" cy="53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Arial"/>
              </a:rPr>
              <a:t>The state of the atmosphere at a given momen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994280" y="1882800"/>
            <a:ext cx="3854520" cy="439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6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819440"/>
            <a:ext cx="3714840" cy="139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2000" y="-360"/>
            <a:ext cx="854892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ccffff"/>
                </a:solidFill>
                <a:latin typeface="Arial"/>
                <a:ea typeface="Arial"/>
              </a:rPr>
              <a:t>Atmosphere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0320" y="2257560"/>
            <a:ext cx="4146480" cy="53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he air that surrounds Ear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164200" y="2370240"/>
            <a:ext cx="4233960" cy="42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17680" y="3005280"/>
            <a:ext cx="4743360" cy="3165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1819440"/>
            <a:ext cx="3714840" cy="1396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2000" y="55080"/>
            <a:ext cx="8548920" cy="16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300" spc="-1" strike="noStrike">
                <a:solidFill>
                  <a:srgbClr val="ff1d74"/>
                </a:solidFill>
                <a:latin typeface="Arial"/>
                <a:ea typeface="Arial"/>
              </a:rPr>
              <a:t>Climate</a:t>
            </a: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83160" y="1469880"/>
            <a:ext cx="4145040" cy="54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he combination of the different types of weather in a reg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1819440"/>
            <a:ext cx="3714840" cy="1396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2000" y="563400"/>
            <a:ext cx="854892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 Bold"/>
                <a:ea typeface="Arial Bold"/>
              </a:rPr>
              <a:t>Precipitation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8520" y="1625760"/>
            <a:ext cx="4071960" cy="54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old"/>
                <a:ea typeface="Arial Bold"/>
              </a:rPr>
              <a:t>Any form of </a:t>
            </a:r>
            <a:r>
              <a:rPr b="0" lang="en-US" sz="4400" spc="-1" strike="noStrike">
                <a:solidFill>
                  <a:srgbClr val="0d0d0d"/>
                </a:solidFill>
                <a:latin typeface="Arial Bold"/>
                <a:ea typeface="Arial Bold"/>
              </a:rPr>
              <a:t>water</a:t>
            </a:r>
            <a:r>
              <a:rPr b="0" lang="en-US" sz="4400" spc="-1" strike="noStrike">
                <a:solidFill>
                  <a:srgbClr val="ffffff"/>
                </a:solidFill>
                <a:latin typeface="Arial Bold"/>
                <a:ea typeface="Arial Bold"/>
              </a:rPr>
              <a:t> (</a:t>
            </a:r>
            <a:r>
              <a:rPr b="0" lang="en-US" sz="4400" spc="-1" strike="noStrike">
                <a:solidFill>
                  <a:srgbClr val="ffff00"/>
                </a:solidFill>
                <a:latin typeface="Arial Bold"/>
                <a:ea typeface="Arial Bold"/>
              </a:rPr>
              <a:t>rain, snow or hail</a:t>
            </a:r>
            <a:r>
              <a:rPr b="0" lang="en-US" sz="4400" spc="-1" strike="noStrike">
                <a:solidFill>
                  <a:srgbClr val="ffffff"/>
                </a:solidFill>
                <a:latin typeface="Arial Bold"/>
                <a:ea typeface="Arial Bold"/>
              </a:rPr>
              <a:t>) that falls on the earth’s su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238720" y="2359080"/>
            <a:ext cx="375768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1819440"/>
            <a:ext cx="3714840" cy="1396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2000" y="-360"/>
            <a:ext cx="854892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 Bold"/>
                <a:ea typeface="Arial Bold"/>
              </a:rPr>
              <a:t>Win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0320" y="2257560"/>
            <a:ext cx="4146480" cy="53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he movement of ai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994280" y="2063880"/>
            <a:ext cx="3927600" cy="39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1819440"/>
            <a:ext cx="3714840" cy="1396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2000" y="-360"/>
            <a:ext cx="854892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3b332"/>
                </a:solidFill>
                <a:latin typeface="Arial Bold"/>
                <a:ea typeface="Arial Bold"/>
              </a:rPr>
              <a:t>Wind van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162040" y="2257560"/>
            <a:ext cx="414684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Instrument that measures the wind dire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58920" y="2444760"/>
            <a:ext cx="4763880" cy="35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1819440"/>
            <a:ext cx="3714840" cy="1396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2000" y="-360"/>
            <a:ext cx="913932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a19ff"/>
                </a:solidFill>
                <a:latin typeface="Arial"/>
                <a:ea typeface="Arial"/>
              </a:rPr>
              <a:t>Meteorologist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62040" y="2257200"/>
            <a:ext cx="4146840" cy="53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cientist who studies the weather and the atmosp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469880" y="2603520"/>
            <a:ext cx="2838600" cy="3535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